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9C3-6EAF-47AE-ABF9-58BF7707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E67-5499-4372-B5FB-34E76813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5F1-08A4-4379-9A70-937172EE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BB9-3481-430A-B7C1-E7A168A1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534-03D6-436C-85C6-54747410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C0F-4E57-402D-8EF6-515C52B2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BDB-1E37-414F-A7B4-22980828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6EA-0D3C-486F-9023-D5AC68EE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814-7574-4001-AE6E-3586FF6A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016-D872-4305-9EB0-03F45A6C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FC0-784B-4305-A822-A9A73532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F0E-2181-41B0-AD30-5CCC93A3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4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E7CC-04BB-4663-8C5A-73C54DC96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4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etry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4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2952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rs notice the characteristics of poems as they read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4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notice about poems as you are reading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4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e are some poetry characteristics.  Are any of them used in the poems you have re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e brea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t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hymes but doesn’t hav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ing lines, phrases o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2362320"/>
            <a:ext cx="3276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al theme or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l wor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5:02:25Z</dcterms:created>
  <dc:creator>AAPS</dc:creator>
  <dc:description/>
  <dc:language>en-US</dc:language>
  <cp:lastModifiedBy>AAPS</cp:lastModifiedBy>
  <cp:lastPrinted>2005-10-17T17:03:21Z</cp:lastPrinted>
  <dcterms:modified xsi:type="dcterms:W3CDTF">2006-03-09T03:11:14Z</dcterms:modified>
  <cp:revision>17</cp:revision>
  <dc:subject/>
  <dc:title>FEATURE ARTICLE CHARACTERISTICS</dc:title>
</cp:coreProperties>
</file>